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89E-D5B2-4417-836A-A6BA5095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002F-7D0D-4AF5-94F4-6D5BE1F6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3201-E698-4E7A-B07C-6BFF57D8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4F7C-0AD3-4588-A019-F491DD34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ED60-5C20-4D36-8252-5A689D96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1A0-E2EF-4E53-81DF-A952E219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CA5-04C3-43E6-8492-C7231FB6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CC27-BFC8-4A6A-80B7-97CD8119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4E5D-1CB7-4CFB-AAF8-C6F570F7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E2B-FE0E-4AED-82AC-9C3C271F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BBD-22A6-4192-BE9F-BCA20854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4093-1865-43F0-AA58-E1F6BFEC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C870-5D22-47A3-B443-4B537455FB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414440" y="2011320"/>
            <a:ext cx="6151680" cy="3721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209760" y="836640"/>
            <a:ext cx="27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故  宫  博  物  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6802920" y="1557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传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826920" y="260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八年级语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上  新课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[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人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作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"/>
          <p:cNvSpPr/>
          <p:nvPr/>
        </p:nvSpPr>
        <p:spPr>
          <a:xfrm>
            <a:off x="1806840" y="1325520"/>
            <a:ext cx="5581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故宫博物院》原是一篇广播稿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配乐在中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民广播电台《祖国各地》节目中播出。播出后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少听众要求重播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且建议将稿件交报刊发表。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《地理知识》杂志准备开辟“旅游地理”专栏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9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第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期上刊载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目叫“古代艺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宝库——故宫博物院”。课文《故宫博物院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是根据这篇文章删改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对角圆角矩形 5"/>
          <p:cNvSpPr/>
          <p:nvPr/>
        </p:nvSpPr>
        <p:spPr>
          <a:xfrm>
            <a:off x="611280" y="1413000"/>
            <a:ext cx="8281800" cy="4608360"/>
          </a:xfrm>
          <a:custGeom>
            <a:avLst/>
            <a:gdLst/>
            <a:ahLst/>
            <a:rect l="l" t="t" r="r" b="b"/>
            <a:pathLst>
              <a:path w="8280920" h="4608512">
                <a:moveTo>
                  <a:pt x="768100" y="0"/>
                </a:moveTo>
                <a:lnTo>
                  <a:pt x="8280920" y="0"/>
                </a:lnTo>
                <a:lnTo>
                  <a:pt x="8280920" y="0"/>
                </a:lnTo>
                <a:lnTo>
                  <a:pt x="8280920" y="3840411"/>
                </a:lnTo>
                <a:cubicBezTo>
                  <a:pt x="8280920" y="4264621"/>
                  <a:pt x="7937030" y="4608511"/>
                  <a:pt x="7512820" y="4608511"/>
                </a:cubicBezTo>
                <a:lnTo>
                  <a:pt x="0" y="4608512"/>
                </a:lnTo>
                <a:lnTo>
                  <a:pt x="0" y="4608512"/>
                </a:lnTo>
                <a:lnTo>
                  <a:pt x="0" y="768100"/>
                </a:lnTo>
                <a:cubicBezTo>
                  <a:pt x="0" y="343890"/>
                  <a:pt x="343890" y="0"/>
                  <a:pt x="76810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C:\Users\Administrator\Desktop\u=2296673319,910650908&amp;fm=21&amp;gp=0.jpg"/>
          <p:cNvPicPr/>
          <p:nvPr/>
        </p:nvPicPr>
        <p:blipFill>
          <a:blip r:embed="rId2"/>
          <a:stretch/>
        </p:blipFill>
        <p:spPr>
          <a:xfrm>
            <a:off x="4932360" y="5229360"/>
            <a:ext cx="40687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主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"/>
          <p:cNvSpPr/>
          <p:nvPr/>
        </p:nvSpPr>
        <p:spPr>
          <a:xfrm>
            <a:off x="2130480" y="1751040"/>
            <a:ext cx="47192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篇解说词按照参观路线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采用移步换景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详略得当地介绍了故宫的主要建筑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达了作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故宫的热爱和赞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歌颂了我国古代劳动人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智慧和伟大的创造力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展示了中华民族的文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瑰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对角圆角矩形 5"/>
          <p:cNvSpPr/>
          <p:nvPr/>
        </p:nvSpPr>
        <p:spPr>
          <a:xfrm>
            <a:off x="611280" y="1557360"/>
            <a:ext cx="7848360" cy="3887640"/>
          </a:xfrm>
          <a:custGeom>
            <a:avLst/>
            <a:gdLst/>
            <a:ahLst/>
            <a:rect l="l" t="t" r="r" b="b"/>
            <a:pathLst>
              <a:path w="7848872" h="3888432">
                <a:moveTo>
                  <a:pt x="648084" y="0"/>
                </a:moveTo>
                <a:lnTo>
                  <a:pt x="7848872" y="0"/>
                </a:lnTo>
                <a:lnTo>
                  <a:pt x="7848872" y="0"/>
                </a:lnTo>
                <a:lnTo>
                  <a:pt x="7848872" y="3240347"/>
                </a:lnTo>
                <a:cubicBezTo>
                  <a:pt x="7848872" y="3598274"/>
                  <a:pt x="7558715" y="3888431"/>
                  <a:pt x="7200788" y="3888431"/>
                </a:cubicBezTo>
                <a:lnTo>
                  <a:pt x="0" y="3888432"/>
                </a:lnTo>
                <a:lnTo>
                  <a:pt x="0" y="3888432"/>
                </a:lnTo>
                <a:lnTo>
                  <a:pt x="0" y="648084"/>
                </a:lnTo>
                <a:cubicBezTo>
                  <a:pt x="0" y="290157"/>
                  <a:pt x="290157" y="0"/>
                  <a:pt x="648084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脉络梳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pic>
        <p:nvPicPr>
          <p:cNvPr id="170" name="RJ14.eps" descr="id:2147502401;FounderCES"/>
          <p:cNvPicPr/>
          <p:nvPr/>
        </p:nvPicPr>
        <p:blipFill>
          <a:blip r:embed="rId2"/>
          <a:stretch/>
        </p:blipFill>
        <p:spPr>
          <a:xfrm>
            <a:off x="611280" y="1628640"/>
            <a:ext cx="81374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"/>
          <p:cNvSpPr/>
          <p:nvPr/>
        </p:nvSpPr>
        <p:spPr>
          <a:xfrm>
            <a:off x="1849320" y="1491120"/>
            <a:ext cx="5337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本文的说明对象是什么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作者是抓住说明对象的哪些特征来写的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对象是故宫博物院。特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模宏大壮丽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筑精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布局统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在众多的宫殿中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作者为什么要选择太和殿和养心殿作为重点来介绍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全文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说明前朝和内廷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局部而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介绍太和殿和养心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太和殿是故宫建筑的主体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能体现故宫建筑设计的特色——处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现封建帝王“唯我独尊”、皇权至上的思想。重点介绍此殿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能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读者窥一斑而知全豹。养心殿是封建帝王的活动中心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较详细地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绍封建帝王的罪恶历史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它在历史上的重要“位置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然能体现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故宫”的特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以文章也作重点说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圆角矩形标注 5"/>
          <p:cNvSpPr/>
          <p:nvPr/>
        </p:nvSpPr>
        <p:spPr>
          <a:xfrm>
            <a:off x="539640" y="1989000"/>
            <a:ext cx="7777440" cy="719280"/>
          </a:xfrm>
          <a:prstGeom prst="wedgeRoundRectCallout">
            <a:avLst>
              <a:gd name="adj1" fmla="val -8824"/>
              <a:gd name="adj2" fmla="val -5953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对角圆角矩形 6"/>
          <p:cNvSpPr/>
          <p:nvPr/>
        </p:nvSpPr>
        <p:spPr>
          <a:xfrm>
            <a:off x="395280" y="2852640"/>
            <a:ext cx="7993080" cy="3313080"/>
          </a:xfrm>
          <a:custGeom>
            <a:avLst/>
            <a:gdLst/>
            <a:ahLst/>
            <a:rect l="l" t="t" r="r" b="b"/>
            <a:pathLst>
              <a:path w="7992888" h="3312368">
                <a:moveTo>
                  <a:pt x="552072" y="0"/>
                </a:moveTo>
                <a:lnTo>
                  <a:pt x="7992888" y="0"/>
                </a:lnTo>
                <a:lnTo>
                  <a:pt x="7992888" y="0"/>
                </a:lnTo>
                <a:lnTo>
                  <a:pt x="7992888" y="2760295"/>
                </a:lnTo>
                <a:cubicBezTo>
                  <a:pt x="7992888" y="3065196"/>
                  <a:pt x="7745717" y="3312367"/>
                  <a:pt x="7440816" y="3312367"/>
                </a:cubicBezTo>
                <a:lnTo>
                  <a:pt x="0" y="3312368"/>
                </a:lnTo>
                <a:lnTo>
                  <a:pt x="0" y="3312368"/>
                </a:lnTo>
                <a:lnTo>
                  <a:pt x="0" y="552072"/>
                </a:lnTo>
                <a:cubicBezTo>
                  <a:pt x="0" y="247171"/>
                  <a:pt x="247171" y="0"/>
                  <a:pt x="55207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8"/>
          <p:cNvSpPr/>
          <p:nvPr/>
        </p:nvSpPr>
        <p:spPr>
          <a:xfrm>
            <a:off x="611280" y="76500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7"/>
          <p:cNvSpPr/>
          <p:nvPr/>
        </p:nvSpPr>
        <p:spPr>
          <a:xfrm>
            <a:off x="539640" y="765000"/>
            <a:ext cx="2160720" cy="503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"/>
          <p:cNvSpPr/>
          <p:nvPr/>
        </p:nvSpPr>
        <p:spPr>
          <a:xfrm>
            <a:off x="1923840" y="1126440"/>
            <a:ext cx="5218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文中介绍故宫建筑时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为什么多次描写到龙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龙是皇权的象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故宫的建筑突出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就是突出皇权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威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而介绍故宫建筑多次描写到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故宫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我国古代宫殿建筑艺术的瑰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中国乃至世界现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最大、最完整的古代宫殿建筑群。故宫里华美的陈设和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不显示了我国古代劳动人民的才智和巨大的劳动成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太和殿里面雕刻的千姿百态的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是劳动人民智慧和高超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刻技术的表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文是写实的文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然会描写到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对角圆角矩形 5"/>
          <p:cNvSpPr/>
          <p:nvPr/>
        </p:nvSpPr>
        <p:spPr>
          <a:xfrm>
            <a:off x="324000" y="1268280"/>
            <a:ext cx="8424720" cy="648000"/>
          </a:xfrm>
          <a:custGeom>
            <a:avLst/>
            <a:gdLst/>
            <a:ahLst/>
            <a:rect l="l" t="t" r="r" b="b"/>
            <a:pathLst>
              <a:path w="8424936" h="648072">
                <a:moveTo>
                  <a:pt x="108014" y="0"/>
                </a:moveTo>
                <a:lnTo>
                  <a:pt x="8424936" y="0"/>
                </a:lnTo>
                <a:lnTo>
                  <a:pt x="8424936" y="0"/>
                </a:lnTo>
                <a:lnTo>
                  <a:pt x="8424936" y="540057"/>
                </a:lnTo>
                <a:cubicBezTo>
                  <a:pt x="8424936" y="599711"/>
                  <a:pt x="8376576" y="648071"/>
                  <a:pt x="8316922" y="648071"/>
                </a:cubicBezTo>
                <a:lnTo>
                  <a:pt x="0" y="648072"/>
                </a:lnTo>
                <a:lnTo>
                  <a:pt x="0" y="648072"/>
                </a:lnTo>
                <a:lnTo>
                  <a:pt x="0" y="108014"/>
                </a:lnTo>
                <a:cubicBezTo>
                  <a:pt x="0" y="48360"/>
                  <a:pt x="48360" y="0"/>
                  <a:pt x="108014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标注 6"/>
          <p:cNvSpPr/>
          <p:nvPr/>
        </p:nvSpPr>
        <p:spPr>
          <a:xfrm>
            <a:off x="324000" y="2276640"/>
            <a:ext cx="8424720" cy="3960720"/>
          </a:xfrm>
          <a:prstGeom prst="wedgeRoundRectCallout">
            <a:avLst>
              <a:gd name="adj1" fmla="val -8287"/>
              <a:gd name="adj2" fmla="val -5563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1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4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7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6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2156400" y="1614240"/>
            <a:ext cx="4802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介绍故宫时多次描写到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既体现了对劳动人民智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歌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体现了对封建统治者的批判。正如作者所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《故宫博物院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感情基调是爱和赞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着眼于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筑文物的精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劳动人民的智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要的历史价值。但故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是封建统治的中心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的建筑是为封建统治者服务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太和殿的一段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描绘了多姿多态的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时也没有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记揭露那些把自己神化为受命于天的‘真龙天子’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对角圆角矩形 5"/>
          <p:cNvSpPr/>
          <p:nvPr/>
        </p:nvSpPr>
        <p:spPr>
          <a:xfrm>
            <a:off x="539640" y="1484280"/>
            <a:ext cx="8136000" cy="4321080"/>
          </a:xfrm>
          <a:custGeom>
            <a:avLst/>
            <a:gdLst/>
            <a:ahLst/>
            <a:rect l="l" t="t" r="r" b="b"/>
            <a:pathLst>
              <a:path w="8136904" h="4320480">
                <a:moveTo>
                  <a:pt x="720094" y="0"/>
                </a:moveTo>
                <a:lnTo>
                  <a:pt x="8136904" y="0"/>
                </a:lnTo>
                <a:lnTo>
                  <a:pt x="8136904" y="0"/>
                </a:lnTo>
                <a:lnTo>
                  <a:pt x="8136904" y="3600385"/>
                </a:lnTo>
                <a:cubicBezTo>
                  <a:pt x="8136904" y="3998082"/>
                  <a:pt x="7814507" y="4320479"/>
                  <a:pt x="7416810" y="4320479"/>
                </a:cubicBezTo>
                <a:lnTo>
                  <a:pt x="0" y="4320480"/>
                </a:lnTo>
                <a:lnTo>
                  <a:pt x="0" y="4320480"/>
                </a:lnTo>
                <a:lnTo>
                  <a:pt x="0" y="720094"/>
                </a:lnTo>
                <a:cubicBezTo>
                  <a:pt x="0" y="322397"/>
                  <a:pt x="322397" y="0"/>
                  <a:pt x="720094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"/>
          <p:cNvSpPr/>
          <p:nvPr/>
        </p:nvSpPr>
        <p:spPr>
          <a:xfrm>
            <a:off x="1479600" y="1106280"/>
            <a:ext cx="6948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一、积累与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各组词语中加点字的注音完全正确的一项是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矗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chù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湛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z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n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矫健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q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藻井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z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蟠龙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n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檀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击磬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qìng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赏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cì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御花园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y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额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ng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妃嫔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bīn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金銮殿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l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395280" y="5013360"/>
            <a:ext cx="8497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中“矫”应读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;B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中“藻”应读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;D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中“嫔”应读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í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对角圆角矩形 4"/>
          <p:cNvSpPr/>
          <p:nvPr/>
        </p:nvSpPr>
        <p:spPr>
          <a:xfrm>
            <a:off x="250920" y="5157720"/>
            <a:ext cx="8424720" cy="1079640"/>
          </a:xfrm>
          <a:custGeom>
            <a:avLst/>
            <a:gdLst/>
            <a:ahLst/>
            <a:rect l="l" t="t" r="r" b="b"/>
            <a:pathLst>
              <a:path w="8424936" h="1080120">
                <a:moveTo>
                  <a:pt x="180023" y="0"/>
                </a:moveTo>
                <a:lnTo>
                  <a:pt x="8424936" y="0"/>
                </a:lnTo>
                <a:lnTo>
                  <a:pt x="8424936" y="0"/>
                </a:lnTo>
                <a:lnTo>
                  <a:pt x="8424936" y="900096"/>
                </a:lnTo>
                <a:cubicBezTo>
                  <a:pt x="8424936" y="999520"/>
                  <a:pt x="8344337" y="1080119"/>
                  <a:pt x="8244913" y="1080119"/>
                </a:cubicBezTo>
                <a:lnTo>
                  <a:pt x="0" y="1080120"/>
                </a:lnTo>
                <a:lnTo>
                  <a:pt x="0" y="1080120"/>
                </a:lnTo>
                <a:lnTo>
                  <a:pt x="0" y="180023"/>
                </a:lnTo>
                <a:cubicBezTo>
                  <a:pt x="0" y="80599"/>
                  <a:pt x="80599" y="0"/>
                  <a:pt x="18002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8408160" y="1916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6"/>
          <p:cNvSpPr/>
          <p:nvPr/>
        </p:nvSpPr>
        <p:spPr>
          <a:xfrm>
            <a:off x="3203640" y="2997360"/>
            <a:ext cx="7308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8"/>
          <p:cNvSpPr/>
          <p:nvPr/>
        </p:nvSpPr>
        <p:spPr>
          <a:xfrm>
            <a:off x="5724360" y="2997360"/>
            <a:ext cx="7164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9"/>
          <p:cNvSpPr/>
          <p:nvPr/>
        </p:nvSpPr>
        <p:spPr>
          <a:xfrm>
            <a:off x="826920" y="3573360"/>
            <a:ext cx="7308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10"/>
          <p:cNvSpPr/>
          <p:nvPr/>
        </p:nvSpPr>
        <p:spPr>
          <a:xfrm>
            <a:off x="5724360" y="3573360"/>
            <a:ext cx="7164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1"/>
          <p:cNvSpPr/>
          <p:nvPr/>
        </p:nvSpPr>
        <p:spPr>
          <a:xfrm>
            <a:off x="3276720" y="3573360"/>
            <a:ext cx="7128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13"/>
          <p:cNvSpPr/>
          <p:nvPr/>
        </p:nvSpPr>
        <p:spPr>
          <a:xfrm>
            <a:off x="3708360" y="4221000"/>
            <a:ext cx="7164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4"/>
          <p:cNvSpPr/>
          <p:nvPr/>
        </p:nvSpPr>
        <p:spPr>
          <a:xfrm>
            <a:off x="1187280" y="4221000"/>
            <a:ext cx="7164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15"/>
          <p:cNvSpPr/>
          <p:nvPr/>
        </p:nvSpPr>
        <p:spPr>
          <a:xfrm>
            <a:off x="5796000" y="4221000"/>
            <a:ext cx="7128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16"/>
          <p:cNvSpPr/>
          <p:nvPr/>
        </p:nvSpPr>
        <p:spPr>
          <a:xfrm>
            <a:off x="887400" y="3033720"/>
            <a:ext cx="14436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17"/>
          <p:cNvSpPr/>
          <p:nvPr/>
        </p:nvSpPr>
        <p:spPr>
          <a:xfrm>
            <a:off x="1258920" y="4869000"/>
            <a:ext cx="7308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18"/>
          <p:cNvSpPr/>
          <p:nvPr/>
        </p:nvSpPr>
        <p:spPr>
          <a:xfrm>
            <a:off x="6084720" y="4869000"/>
            <a:ext cx="7164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19"/>
          <p:cNvSpPr/>
          <p:nvPr/>
        </p:nvSpPr>
        <p:spPr>
          <a:xfrm>
            <a:off x="3708360" y="4869000"/>
            <a:ext cx="7164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"/>
          <p:cNvSpPr/>
          <p:nvPr/>
        </p:nvSpPr>
        <p:spPr>
          <a:xfrm>
            <a:off x="1502640" y="1102320"/>
            <a:ext cx="6113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各组词语的书写完全正确的一项是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雕金屏风　相互应衬　金碧辉煌　独占鳌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幽雅宁静　迥然不同　错综相连　殿檐斗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烟雾燎绕　池馆水榭　井然有序　宏大壮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庄严肃穆　龙凤呈祥　鸣钟击罄　亭台楼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3"/>
          <p:cNvSpPr/>
          <p:nvPr/>
        </p:nvSpPr>
        <p:spPr>
          <a:xfrm>
            <a:off x="395280" y="4724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A.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应—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;C.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燎—缭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;D.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罄—磬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4"/>
          <p:cNvSpPr/>
          <p:nvPr/>
        </p:nvSpPr>
        <p:spPr>
          <a:xfrm>
            <a:off x="7817760" y="11970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对角圆角矩形 5"/>
          <p:cNvSpPr/>
          <p:nvPr/>
        </p:nvSpPr>
        <p:spPr>
          <a:xfrm>
            <a:off x="324000" y="4437000"/>
            <a:ext cx="8280360" cy="1079640"/>
          </a:xfrm>
          <a:custGeom>
            <a:avLst/>
            <a:gdLst/>
            <a:ahLst/>
            <a:rect l="l" t="t" r="r" b="b"/>
            <a:pathLst>
              <a:path w="8280920" h="1080120">
                <a:moveTo>
                  <a:pt x="180023" y="0"/>
                </a:moveTo>
                <a:lnTo>
                  <a:pt x="8280920" y="0"/>
                </a:lnTo>
                <a:lnTo>
                  <a:pt x="8280920" y="0"/>
                </a:lnTo>
                <a:lnTo>
                  <a:pt x="8280920" y="900096"/>
                </a:lnTo>
                <a:cubicBezTo>
                  <a:pt x="8280920" y="999520"/>
                  <a:pt x="8200321" y="1080119"/>
                  <a:pt x="8100897" y="1080119"/>
                </a:cubicBezTo>
                <a:lnTo>
                  <a:pt x="0" y="1080120"/>
                </a:lnTo>
                <a:lnTo>
                  <a:pt x="0" y="1080120"/>
                </a:lnTo>
                <a:lnTo>
                  <a:pt x="0" y="180023"/>
                </a:lnTo>
                <a:cubicBezTo>
                  <a:pt x="0" y="80599"/>
                  <a:pt x="80599" y="0"/>
                  <a:pt x="18002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8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7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1958040" y="1049040"/>
            <a:ext cx="48326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恰当的词语填充在句子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围绕　环绕　缭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基有三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层的边缘都用汉白玉栏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基上的香炉和铜龟、铜鹤里点起檀香或松柏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烟雾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龙口里垂下一颗银白色大圆珠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周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着六颗小珠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龙头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珠正对着下面的宝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出下列句子运用的说明方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弯弯的金水河像一条玉带横贯东西。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三殿的图案以龙为主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三宫凤凰逐渐增加。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城呈长方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占地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2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平方米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大小宫殿七十多座、房屋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千多间。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4"/>
          <p:cNvSpPr/>
          <p:nvPr/>
        </p:nvSpPr>
        <p:spPr>
          <a:xfrm>
            <a:off x="5541840" y="2060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5"/>
          <p:cNvSpPr/>
          <p:nvPr/>
        </p:nvSpPr>
        <p:spPr>
          <a:xfrm>
            <a:off x="7053840" y="249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缭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5325840" y="292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环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8"/>
          <p:cNvSpPr/>
          <p:nvPr/>
        </p:nvSpPr>
        <p:spPr>
          <a:xfrm>
            <a:off x="5811840" y="4221000"/>
            <a:ext cx="10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打比方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6890760" y="4869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作比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0"/>
          <p:cNvSpPr/>
          <p:nvPr/>
        </p:nvSpPr>
        <p:spPr>
          <a:xfrm>
            <a:off x="2353680" y="5732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列数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9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2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5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8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1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7" dur="2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0" dur="20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3" dur="20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6" dur="20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9" dur="200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"/>
          <p:cNvSpPr/>
          <p:nvPr/>
        </p:nvSpPr>
        <p:spPr>
          <a:xfrm>
            <a:off x="1553400" y="790560"/>
            <a:ext cx="655344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要求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故宫博物院最主要的建筑有前三殿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太和殿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及后三宫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交泰殿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事物要抓住事物的特征按顺序进行说明。《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博物院》就是抓住故宫建筑群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 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特征按空间顺序来说明的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京故宫、山东岱庙、曲阜孔庙并称为我国最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殿式建筑群。“岱”指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孔”指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3"/>
          <p:cNvSpPr/>
          <p:nvPr/>
        </p:nvSpPr>
        <p:spPr>
          <a:xfrm>
            <a:off x="7815600" y="141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中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4"/>
          <p:cNvSpPr/>
          <p:nvPr/>
        </p:nvSpPr>
        <p:spPr>
          <a:xfrm>
            <a:off x="398160" y="2133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5"/>
          <p:cNvSpPr/>
          <p:nvPr/>
        </p:nvSpPr>
        <p:spPr>
          <a:xfrm>
            <a:off x="1042920" y="2133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保和殿　                   乾清宫　             坤宁宫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6"/>
          <p:cNvSpPr/>
          <p:nvPr/>
        </p:nvSpPr>
        <p:spPr>
          <a:xfrm>
            <a:off x="5724360" y="3429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规模宏大壮丽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8"/>
          <p:cNvSpPr/>
          <p:nvPr/>
        </p:nvSpPr>
        <p:spPr>
          <a:xfrm>
            <a:off x="1318320" y="407664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建筑精美　  布局统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9"/>
          <p:cNvSpPr/>
          <p:nvPr/>
        </p:nvSpPr>
        <p:spPr>
          <a:xfrm>
            <a:off x="4918320" y="5373720"/>
            <a:ext cx="29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泰山　                 孔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0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2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1278360" y="1218960"/>
            <a:ext cx="6828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生字注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蟠龙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金銮殿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额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鳌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乾清宫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斗拱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矗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湛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 藻井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磬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迥然不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)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琉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檀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坤宁宫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殿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肃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622880" y="19890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4211640" y="1989000"/>
            <a:ext cx="10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u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6804000" y="1989000"/>
            <a:ext cx="11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f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0"/>
          <p:cNvSpPr/>
          <p:nvPr/>
        </p:nvSpPr>
        <p:spPr>
          <a:xfrm>
            <a:off x="1684800" y="25653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1"/>
          <p:cNvSpPr/>
          <p:nvPr/>
        </p:nvSpPr>
        <p:spPr>
          <a:xfrm>
            <a:off x="4359600" y="2637000"/>
            <a:ext cx="9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q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7037280" y="26370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ǒ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3"/>
          <p:cNvSpPr/>
          <p:nvPr/>
        </p:nvSpPr>
        <p:spPr>
          <a:xfrm>
            <a:off x="1622520" y="3284640"/>
            <a:ext cx="8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ch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3935520" y="3284640"/>
            <a:ext cx="13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5"/>
          <p:cNvSpPr/>
          <p:nvPr/>
        </p:nvSpPr>
        <p:spPr>
          <a:xfrm>
            <a:off x="7030800" y="3213000"/>
            <a:ext cx="7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6"/>
          <p:cNvSpPr/>
          <p:nvPr/>
        </p:nvSpPr>
        <p:spPr>
          <a:xfrm>
            <a:off x="1274400" y="393372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qì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7"/>
          <p:cNvSpPr/>
          <p:nvPr/>
        </p:nvSpPr>
        <p:spPr>
          <a:xfrm>
            <a:off x="4732560" y="3933720"/>
            <a:ext cx="10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iǒ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8"/>
          <p:cNvSpPr/>
          <p:nvPr/>
        </p:nvSpPr>
        <p:spPr>
          <a:xfrm>
            <a:off x="7092360" y="386064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i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0"/>
          <p:cNvSpPr/>
          <p:nvPr/>
        </p:nvSpPr>
        <p:spPr>
          <a:xfrm>
            <a:off x="1686600" y="4508640"/>
            <a:ext cx="78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t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1"/>
          <p:cNvSpPr/>
          <p:nvPr/>
        </p:nvSpPr>
        <p:spPr>
          <a:xfrm>
            <a:off x="4354560" y="4508640"/>
            <a:ext cx="86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k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2"/>
          <p:cNvSpPr/>
          <p:nvPr/>
        </p:nvSpPr>
        <p:spPr>
          <a:xfrm>
            <a:off x="7019280" y="450864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3"/>
          <p:cNvSpPr/>
          <p:nvPr/>
        </p:nvSpPr>
        <p:spPr>
          <a:xfrm>
            <a:off x="1695600" y="5157720"/>
            <a:ext cx="7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m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26"/>
          <p:cNvSpPr/>
          <p:nvPr/>
        </p:nvSpPr>
        <p:spPr>
          <a:xfrm>
            <a:off x="971640" y="2492280"/>
            <a:ext cx="7128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27"/>
          <p:cNvSpPr/>
          <p:nvPr/>
        </p:nvSpPr>
        <p:spPr>
          <a:xfrm>
            <a:off x="3492360" y="2492280"/>
            <a:ext cx="7164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28"/>
          <p:cNvSpPr/>
          <p:nvPr/>
        </p:nvSpPr>
        <p:spPr>
          <a:xfrm>
            <a:off x="6588000" y="2421000"/>
            <a:ext cx="7164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29"/>
          <p:cNvSpPr/>
          <p:nvPr/>
        </p:nvSpPr>
        <p:spPr>
          <a:xfrm>
            <a:off x="6372360" y="3141720"/>
            <a:ext cx="7128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30"/>
          <p:cNvSpPr/>
          <p:nvPr/>
        </p:nvSpPr>
        <p:spPr>
          <a:xfrm>
            <a:off x="3348000" y="3141720"/>
            <a:ext cx="7164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31"/>
          <p:cNvSpPr/>
          <p:nvPr/>
        </p:nvSpPr>
        <p:spPr>
          <a:xfrm>
            <a:off x="971640" y="3068640"/>
            <a:ext cx="7128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32"/>
          <p:cNvSpPr/>
          <p:nvPr/>
        </p:nvSpPr>
        <p:spPr>
          <a:xfrm>
            <a:off x="971640" y="3716280"/>
            <a:ext cx="7128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33"/>
          <p:cNvSpPr/>
          <p:nvPr/>
        </p:nvSpPr>
        <p:spPr>
          <a:xfrm>
            <a:off x="3276720" y="3716280"/>
            <a:ext cx="7128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34"/>
          <p:cNvSpPr/>
          <p:nvPr/>
        </p:nvSpPr>
        <p:spPr>
          <a:xfrm>
            <a:off x="6300720" y="3716280"/>
            <a:ext cx="7164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5"/>
          <p:cNvSpPr/>
          <p:nvPr/>
        </p:nvSpPr>
        <p:spPr>
          <a:xfrm>
            <a:off x="6372360" y="4365720"/>
            <a:ext cx="7128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36"/>
          <p:cNvSpPr/>
          <p:nvPr/>
        </p:nvSpPr>
        <p:spPr>
          <a:xfrm>
            <a:off x="3348000" y="4365720"/>
            <a:ext cx="7164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37"/>
          <p:cNvSpPr/>
          <p:nvPr/>
        </p:nvSpPr>
        <p:spPr>
          <a:xfrm>
            <a:off x="971640" y="5013360"/>
            <a:ext cx="7128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38"/>
          <p:cNvSpPr/>
          <p:nvPr/>
        </p:nvSpPr>
        <p:spPr>
          <a:xfrm>
            <a:off x="971640" y="4365720"/>
            <a:ext cx="7128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9"/>
          <p:cNvSpPr/>
          <p:nvPr/>
        </p:nvSpPr>
        <p:spPr>
          <a:xfrm>
            <a:off x="3419640" y="5013360"/>
            <a:ext cx="72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40"/>
          <p:cNvSpPr/>
          <p:nvPr/>
        </p:nvSpPr>
        <p:spPr>
          <a:xfrm>
            <a:off x="6732720" y="5013360"/>
            <a:ext cx="7128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42"/>
          <p:cNvSpPr/>
          <p:nvPr/>
        </p:nvSpPr>
        <p:spPr>
          <a:xfrm>
            <a:off x="1332000" y="5661000"/>
            <a:ext cx="7128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对角圆角矩形 43"/>
          <p:cNvSpPr/>
          <p:nvPr/>
        </p:nvSpPr>
        <p:spPr>
          <a:xfrm>
            <a:off x="539640" y="1341360"/>
            <a:ext cx="8064720" cy="4535640"/>
          </a:xfrm>
          <a:custGeom>
            <a:avLst/>
            <a:gdLst/>
            <a:ahLst/>
            <a:rect l="l" t="t" r="r" b="b"/>
            <a:pathLst>
              <a:path w="8064896" h="4536504">
                <a:moveTo>
                  <a:pt x="756099" y="0"/>
                </a:moveTo>
                <a:lnTo>
                  <a:pt x="8064896" y="0"/>
                </a:lnTo>
                <a:lnTo>
                  <a:pt x="8064896" y="0"/>
                </a:lnTo>
                <a:lnTo>
                  <a:pt x="8064896" y="3780404"/>
                </a:lnTo>
                <a:cubicBezTo>
                  <a:pt x="8064896" y="4197986"/>
                  <a:pt x="7726379" y="4536503"/>
                  <a:pt x="7308797" y="4536503"/>
                </a:cubicBezTo>
                <a:lnTo>
                  <a:pt x="0" y="4536504"/>
                </a:lnTo>
                <a:lnTo>
                  <a:pt x="0" y="4536504"/>
                </a:lnTo>
                <a:lnTo>
                  <a:pt x="0" y="756099"/>
                </a:lnTo>
                <a:cubicBezTo>
                  <a:pt x="0" y="338517"/>
                  <a:pt x="338517" y="0"/>
                  <a:pt x="756099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"/>
          <p:cNvSpPr/>
          <p:nvPr/>
        </p:nvSpPr>
        <p:spPr>
          <a:xfrm>
            <a:off x="2035440" y="1032840"/>
            <a:ext cx="515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综合性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《故宫博物院》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班级要组织集体参观并请故宫博物院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作现场报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组织整个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同院长见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定参观时间等事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该怎样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"/>
          <p:cNvSpPr/>
          <p:nvPr/>
        </p:nvSpPr>
        <p:spPr>
          <a:xfrm>
            <a:off x="468360" y="328464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示例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院长伯伯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为了增加对故宫博物院的了解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班同学准备集体参观博物院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届时想请您为我们做现场报告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知什么时间合适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1516320" y="4969800"/>
            <a:ext cx="410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提前为班级同学设计一个参观路线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324000" y="5519520"/>
            <a:ext cx="80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以神武门为出发点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沿中轴线前行到午门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参观沿途的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筑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神武门—后三宫—三大殿—太和门—金水河—午门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圆角矩形标注 6"/>
          <p:cNvSpPr/>
          <p:nvPr/>
        </p:nvSpPr>
        <p:spPr>
          <a:xfrm>
            <a:off x="395280" y="3284640"/>
            <a:ext cx="8497800" cy="1657080"/>
          </a:xfrm>
          <a:prstGeom prst="wedgeRoundRectCallout">
            <a:avLst>
              <a:gd name="adj1" fmla="val 1111"/>
              <a:gd name="adj2" fmla="val -5500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对角圆角矩形 8"/>
          <p:cNvSpPr/>
          <p:nvPr/>
        </p:nvSpPr>
        <p:spPr>
          <a:xfrm>
            <a:off x="395280" y="5445000"/>
            <a:ext cx="7489800" cy="936720"/>
          </a:xfrm>
          <a:custGeom>
            <a:avLst/>
            <a:gdLst/>
            <a:ahLst/>
            <a:rect l="l" t="t" r="r" b="b"/>
            <a:pathLst>
              <a:path w="7488832" h="936104">
                <a:moveTo>
                  <a:pt x="156020" y="0"/>
                </a:moveTo>
                <a:lnTo>
                  <a:pt x="7488832" y="0"/>
                </a:lnTo>
                <a:lnTo>
                  <a:pt x="7488832" y="0"/>
                </a:lnTo>
                <a:lnTo>
                  <a:pt x="7488832" y="780083"/>
                </a:lnTo>
                <a:cubicBezTo>
                  <a:pt x="7488832" y="866250"/>
                  <a:pt x="7418979" y="936103"/>
                  <a:pt x="7332812" y="936103"/>
                </a:cubicBezTo>
                <a:lnTo>
                  <a:pt x="0" y="936104"/>
                </a:lnTo>
                <a:lnTo>
                  <a:pt x="0" y="936104"/>
                </a:lnTo>
                <a:lnTo>
                  <a:pt x="0" y="156020"/>
                </a:lnTo>
                <a:cubicBezTo>
                  <a:pt x="0" y="69853"/>
                  <a:pt x="69853" y="0"/>
                  <a:pt x="15602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3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5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8" dur="2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"/>
          <p:cNvSpPr/>
          <p:nvPr/>
        </p:nvSpPr>
        <p:spPr>
          <a:xfrm>
            <a:off x="1867680" y="1328760"/>
            <a:ext cx="561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二、阅读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揭秘钓鱼台国宾馆　　李　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京钓鱼台国宾馆是中国国家领导人进行外事活动的重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场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是国家接待各国元首和重要客人的超星级宾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说历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京钓鱼台可以上溯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前的金代。当时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位于京城的西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为鱼藻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域面积很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玉渊潭和钓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没有间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金、元皇帝每年游幸之地。金代章宗皇帝喜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垂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而得名“钓鱼台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"/>
          <p:cNvSpPr/>
          <p:nvPr/>
        </p:nvSpPr>
        <p:spPr>
          <a:xfrm>
            <a:off x="1969560" y="1398600"/>
            <a:ext cx="5318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到了明代万历年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成为明代皇亲的京郊别墅。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代著名文人刘侗在《帝京景物略》一书中这样描绘钓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的景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堤柳四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四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渚中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渚置一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置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沙汀鸟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曲房入邃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藤花一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紫一方。”你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刘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钓鱼台描绘得多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上有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心有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岛上有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花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泉水潺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冬夏不竭。这景色美得太“江南园林味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"/>
          <p:cNvSpPr/>
          <p:nvPr/>
        </p:nvSpPr>
        <p:spPr>
          <a:xfrm>
            <a:off x="1710000" y="1043640"/>
            <a:ext cx="5769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代以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清乙酉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765)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值康乾盛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辟为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帝的行宫。乾隆皇帝专门请人将金元时代的鱼藻池旧址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成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来西山之水扩容玉渊潭、钓鱼台之水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将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源疏通引至阜成门、西直门的护城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改善整个京城水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74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乾隆皇帝又决定在钓鱼台行宫大兴土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营造了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处建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养源斋、同乐宫、清露堂、澄漪亭、望海楼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乾隆皇帝还为每座亭、台、楼、阁亲笔题写了匾额。于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钓鱼台的清泉碧水可终年曲折迂回于亭台楼阁和翠林茂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石桥之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钓鱼台行宫显得愈加秀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bt6.jpg" descr=""/>
          <p:cNvPicPr/>
          <p:nvPr/>
        </p:nvPicPr>
        <p:blipFill>
          <a:blip r:embed="rId1"/>
          <a:stretch/>
        </p:blipFill>
        <p:spPr>
          <a:xfrm>
            <a:off x="2843280" y="331920"/>
            <a:ext cx="403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image46.jpg" descr="id:2147502429;FounderCES"/>
          <p:cNvPicPr/>
          <p:nvPr/>
        </p:nvPicPr>
        <p:blipFill>
          <a:blip r:embed="rId1"/>
          <a:stretch/>
        </p:blipFill>
        <p:spPr>
          <a:xfrm>
            <a:off x="468360" y="1268280"/>
            <a:ext cx="8136000" cy="1944720"/>
          </a:xfrm>
          <a:prstGeom prst="rect">
            <a:avLst/>
          </a:prstGeom>
          <a:ln w="0">
            <a:noFill/>
          </a:ln>
        </p:spPr>
      </p:pic>
      <p:sp>
        <p:nvSpPr>
          <p:cNvPr id="240" name="矩形 3"/>
          <p:cNvSpPr/>
          <p:nvPr/>
        </p:nvSpPr>
        <p:spPr>
          <a:xfrm>
            <a:off x="395280" y="3284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中国成立之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外交活动发展迅速。中央决定在钓鱼台建一座国宾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栋设计风格迥异的现代化接待楼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房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套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要建室内网球场、游泳场、健身房等。还决定要将原有的亭台楼阁古建筑重新修缮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部保持原有风格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部改成现代化装修。第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楼总统套楼是楼群中最重点、最豪华的建筑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外形是纯中国皇帝宫殿结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色琉璃瓦铺顶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绿色画栋雕梁环绕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楼高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处处富丽堂皇、金玉交辉。楼内的总统卧室更是气派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的大床和衣橱都用紫檀木精雕而成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落地宫灯分列四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雍容瑰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bt6.jpg" descr=""/>
          <p:cNvPicPr/>
          <p:nvPr/>
        </p:nvPicPr>
        <p:blipFill>
          <a:blip r:embed="rId2"/>
          <a:stretch/>
        </p:blipFill>
        <p:spPr>
          <a:xfrm>
            <a:off x="2914560" y="331920"/>
            <a:ext cx="40338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1812960" y="1043640"/>
            <a:ext cx="586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卧室前的落地大挡屏用红木精雕细刻并配以十余幅山水花鸟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卷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营造出浓浓的中国情调。除总统楼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栋楼有西方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墅式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伊斯兰式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有东方民族式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均是现代化建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一般是会客室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备有餐厅或会议谈判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5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国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周年庆典前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钓鱼台国宾馆迎来了首批国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钓鱼台国宾馆建成以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的景色大为改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钓鱼台行宫和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代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栋楼连成一片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古今相映、珠联璧合。整个国宾馆古木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密、碧水潺潺、绿草茵茵、柳堤弯弯、石桥小径通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恰似人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仙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5436720" y="5590800"/>
            <a:ext cx="20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选自《时文精粹》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南方出版社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bt6.jpg" descr=""/>
          <p:cNvPicPr/>
          <p:nvPr/>
        </p:nvPicPr>
        <p:blipFill>
          <a:blip r:embed="rId1"/>
          <a:stretch/>
        </p:blipFill>
        <p:spPr>
          <a:xfrm>
            <a:off x="2914560" y="331920"/>
            <a:ext cx="40338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"/>
          <p:cNvSpPr/>
          <p:nvPr/>
        </p:nvSpPr>
        <p:spPr>
          <a:xfrm>
            <a:off x="1370520" y="126936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文开头在全文中的作用是什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3"/>
          <p:cNvSpPr/>
          <p:nvPr/>
        </p:nvSpPr>
        <p:spPr>
          <a:xfrm>
            <a:off x="611280" y="1773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选文开头点明钓鱼台国宾馆的重要作用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引起下文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同时激发读者的阅读兴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1958760" y="2925360"/>
            <a:ext cx="51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文运用的说明顺序是什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结合选文内容进行说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5"/>
          <p:cNvSpPr/>
          <p:nvPr/>
        </p:nvSpPr>
        <p:spPr>
          <a:xfrm>
            <a:off x="684360" y="350028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时间顺序。从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800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前金代的命名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到明代万历年间成为皇帝的京郊别墅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接着到大清康乾盛世成为皇帝的行宫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最后到新中国成立以后开始接待外宾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作者详细介绍了钓鱼台国宾馆的发展历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标注 6"/>
          <p:cNvSpPr/>
          <p:nvPr/>
        </p:nvSpPr>
        <p:spPr>
          <a:xfrm>
            <a:off x="539640" y="1773360"/>
            <a:ext cx="7777440" cy="1150920"/>
          </a:xfrm>
          <a:prstGeom prst="wedgeRoundRectCallout">
            <a:avLst>
              <a:gd name="adj1" fmla="val 4819"/>
              <a:gd name="adj2" fmla="val -6009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圆角矩形标注 8"/>
          <p:cNvSpPr/>
          <p:nvPr/>
        </p:nvSpPr>
        <p:spPr>
          <a:xfrm>
            <a:off x="468360" y="3645000"/>
            <a:ext cx="7991280" cy="2160360"/>
          </a:xfrm>
          <a:prstGeom prst="wedgeRoundRectCallout">
            <a:avLst>
              <a:gd name="adj1" fmla="val -5976"/>
              <a:gd name="adj2" fmla="val -5899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bt6.jpg" descr=""/>
          <p:cNvPicPr/>
          <p:nvPr/>
        </p:nvPicPr>
        <p:blipFill>
          <a:blip r:embed="rId1"/>
          <a:stretch/>
        </p:blipFill>
        <p:spPr>
          <a:xfrm>
            <a:off x="2843280" y="331920"/>
            <a:ext cx="403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8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1949760" y="1212120"/>
            <a:ext cx="536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阅读第⑤段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说在钓鱼台国宾馆的众多建筑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介绍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为详细的是哪一栋建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为什么详写这栋建筑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文的说明对象是什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用简练的语言概括本文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3"/>
          <p:cNvSpPr/>
          <p:nvPr/>
        </p:nvSpPr>
        <p:spPr>
          <a:xfrm>
            <a:off x="539640" y="249228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介绍得最为详细的是第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18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号楼总统套楼。因为这栋楼是楼群中最重点、最豪华的建筑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3538080" y="469620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钓鱼台国宾馆。　简述钓鱼台的历史、文化内涵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以及建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过程及其艺术风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圆角矩形标注 5"/>
          <p:cNvSpPr/>
          <p:nvPr/>
        </p:nvSpPr>
        <p:spPr>
          <a:xfrm>
            <a:off x="395280" y="2565360"/>
            <a:ext cx="8353440" cy="1295280"/>
          </a:xfrm>
          <a:prstGeom prst="wedgeRoundRectCallout">
            <a:avLst>
              <a:gd name="adj1" fmla="val -2490"/>
              <a:gd name="adj2" fmla="val -6301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圆角矩形标注 6"/>
          <p:cNvSpPr/>
          <p:nvPr/>
        </p:nvSpPr>
        <p:spPr>
          <a:xfrm>
            <a:off x="468360" y="4581360"/>
            <a:ext cx="8136000" cy="1440000"/>
          </a:xfrm>
          <a:prstGeom prst="wedgeRoundRectCallout">
            <a:avLst>
              <a:gd name="adj1" fmla="val 1643"/>
              <a:gd name="adj2" fmla="val -55416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bt6.jpg" descr=""/>
          <p:cNvPicPr/>
          <p:nvPr/>
        </p:nvPicPr>
        <p:blipFill>
          <a:blip r:embed="rId1"/>
          <a:stretch/>
        </p:blipFill>
        <p:spPr>
          <a:xfrm>
            <a:off x="2843280" y="404640"/>
            <a:ext cx="403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4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7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287280" y="1821240"/>
            <a:ext cx="88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三、课堂小练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位词是表示方向位置的名词。本文介绍太和殿内景时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运用了“正中、上面、两旁、中央、周围”等方位词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读者对路线、方位、各组建筑物的特点与关系清晰明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的条理也十分清楚。请仔细观察你的教室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一些方位词介绍教室的布置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左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324000" y="4340880"/>
            <a:ext cx="85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教室的前面是一个棕色的讲台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正面看上去像一个梯形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上面放着四盒粉笔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两个黑板擦和老师上课用的教材。讲台左边的墙上贴着八条校规校纪和课程表。讲台右边放着一个白色的电视柜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电视柜分三层。上面一层放电视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中间一层放幻灯机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下面一层放着同学们的课外读物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这些东西都是为我们上阅读课准备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圆角矩形标注 4"/>
          <p:cNvSpPr/>
          <p:nvPr/>
        </p:nvSpPr>
        <p:spPr>
          <a:xfrm>
            <a:off x="324000" y="3645000"/>
            <a:ext cx="8640720" cy="2520720"/>
          </a:xfrm>
          <a:prstGeom prst="wedgeRoundRectCallout">
            <a:avLst>
              <a:gd name="adj1" fmla="val -3379"/>
              <a:gd name="adj2" fmla="val -5624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bt6.jpg" descr=""/>
          <p:cNvPicPr/>
          <p:nvPr/>
        </p:nvPicPr>
        <p:blipFill>
          <a:blip r:embed="rId1"/>
          <a:stretch/>
        </p:blipFill>
        <p:spPr>
          <a:xfrm>
            <a:off x="2843280" y="404640"/>
            <a:ext cx="403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bt6b.jpg" descr=""/>
          <p:cNvPicPr/>
          <p:nvPr/>
        </p:nvPicPr>
        <p:blipFill>
          <a:blip r:embed="rId1"/>
          <a:stretch/>
        </p:blipFill>
        <p:spPr>
          <a:xfrm>
            <a:off x="2771640" y="260280"/>
            <a:ext cx="4319640" cy="7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"/>
          <p:cNvGraphicFramePr/>
          <p:nvPr/>
        </p:nvGraphicFramePr>
        <p:xfrm>
          <a:off x="611280" y="1341360"/>
          <a:ext cx="7993080" cy="4032360"/>
        </p:xfrm>
        <a:graphic>
          <a:graphicData uri="http://schemas.openxmlformats.org/drawingml/2006/table">
            <a:tbl>
              <a:tblPr/>
              <a:tblGrid>
                <a:gridCol w="711360"/>
                <a:gridCol w="7281720"/>
              </a:tblGrid>
              <a:tr h="100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微软雅黑"/>
                          <a:ea typeface="微软雅黑"/>
                        </a:rPr>
                        <a:t>修改病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024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归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NEU-BZ-S92"/>
                          <a:ea typeface="宋体"/>
                        </a:rPr>
                        <a:t>　　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矩形 3"/>
          <p:cNvSpPr/>
          <p:nvPr/>
        </p:nvSpPr>
        <p:spPr>
          <a:xfrm>
            <a:off x="1403280" y="234936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修改病句应遵循以下原则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:1.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保持句子的原意。切忌违背原意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另起炉灶。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依据病句的语病类型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可采用多种方法修改。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3.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能用调整语序的方法来修改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就不要增删词语。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4.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如果改一处可以解决问题就绝对不改两处。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5.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要保持句式或陈述对象的一致性。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6.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对于文段综合改错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要认真辨析正误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然后按照提示进行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"/>
          <p:cNvSpPr/>
          <p:nvPr/>
        </p:nvSpPr>
        <p:spPr>
          <a:xfrm>
            <a:off x="871560" y="141444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多音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971640" y="2492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5076720" y="242100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971640" y="4581360"/>
            <a:ext cx="6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0"/>
          <p:cNvSpPr/>
          <p:nvPr/>
        </p:nvSpPr>
        <p:spPr>
          <a:xfrm>
            <a:off x="5294880" y="4508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1907640" y="1989000"/>
            <a:ext cx="1979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óu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车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òu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压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6190200" y="1844640"/>
            <a:ext cx="17974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j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ì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紫禁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ī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禁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2082960" y="4076640"/>
            <a:ext cx="19839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cu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攒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积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6348240" y="3933720"/>
            <a:ext cx="15447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qí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奇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ī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奇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左大括号 15"/>
          <p:cNvSpPr/>
          <p:nvPr/>
        </p:nvSpPr>
        <p:spPr>
          <a:xfrm>
            <a:off x="1547640" y="2349360"/>
            <a:ext cx="71640" cy="863640"/>
          </a:xfrm>
          <a:custGeom>
            <a:avLst/>
            <a:gdLst>
              <a:gd name="textAreaLeft" fmla="*/ 45720 w 71640"/>
              <a:gd name="textAreaRight" fmla="*/ 72000 w 71640"/>
              <a:gd name="textAreaTop" fmla="*/ 1800 h 863640"/>
              <a:gd name="textAreaBottom" fmla="*/ 86184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"/>
                  <a:pt x="10800" y="149"/>
                </a:cubicBezTo>
                <a:lnTo>
                  <a:pt x="10800" y="10651"/>
                </a:lnTo>
                <a:cubicBezTo>
                  <a:pt x="10800" y="10726"/>
                  <a:pt x="5400" y="10800"/>
                  <a:pt x="0" y="10800"/>
                </a:cubicBezTo>
                <a:cubicBezTo>
                  <a:pt x="5400" y="10800"/>
                  <a:pt x="10800" y="10875"/>
                  <a:pt x="10800" y="10949"/>
                </a:cubicBezTo>
                <a:lnTo>
                  <a:pt x="10800" y="21451"/>
                </a:lnTo>
                <a:cubicBezTo>
                  <a:pt x="10800" y="2152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左大括号 16"/>
          <p:cNvSpPr/>
          <p:nvPr/>
        </p:nvSpPr>
        <p:spPr>
          <a:xfrm>
            <a:off x="5867280" y="4292640"/>
            <a:ext cx="73080" cy="865080"/>
          </a:xfrm>
          <a:custGeom>
            <a:avLst/>
            <a:gdLst>
              <a:gd name="textAreaLeft" fmla="*/ 46800 w 73080"/>
              <a:gd name="textAreaRight" fmla="*/ 73440 w 73080"/>
              <a:gd name="textAreaTop" fmla="*/ 1800 h 865080"/>
              <a:gd name="textAreaBottom" fmla="*/ 86328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"/>
                  <a:pt x="10800" y="149"/>
                </a:cubicBezTo>
                <a:lnTo>
                  <a:pt x="10800" y="10651"/>
                </a:lnTo>
                <a:cubicBezTo>
                  <a:pt x="10800" y="10726"/>
                  <a:pt x="5400" y="10800"/>
                  <a:pt x="0" y="10800"/>
                </a:cubicBezTo>
                <a:cubicBezTo>
                  <a:pt x="5400" y="10800"/>
                  <a:pt x="10800" y="10875"/>
                  <a:pt x="10800" y="10949"/>
                </a:cubicBezTo>
                <a:lnTo>
                  <a:pt x="10800" y="21451"/>
                </a:lnTo>
                <a:cubicBezTo>
                  <a:pt x="10800" y="2152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左大括号 17"/>
          <p:cNvSpPr/>
          <p:nvPr/>
        </p:nvSpPr>
        <p:spPr>
          <a:xfrm>
            <a:off x="1692360" y="443700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1800 h 863640"/>
              <a:gd name="textAreaBottom" fmla="*/ 86184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"/>
                  <a:pt x="10800" y="149"/>
                </a:cubicBezTo>
                <a:lnTo>
                  <a:pt x="10800" y="10651"/>
                </a:lnTo>
                <a:cubicBezTo>
                  <a:pt x="10800" y="10726"/>
                  <a:pt x="5400" y="10800"/>
                  <a:pt x="0" y="10800"/>
                </a:cubicBezTo>
                <a:cubicBezTo>
                  <a:pt x="5400" y="10800"/>
                  <a:pt x="10800" y="10875"/>
                  <a:pt x="10800" y="10949"/>
                </a:cubicBezTo>
                <a:lnTo>
                  <a:pt x="10800" y="21451"/>
                </a:lnTo>
                <a:cubicBezTo>
                  <a:pt x="10800" y="2152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左大括号 18"/>
          <p:cNvSpPr/>
          <p:nvPr/>
        </p:nvSpPr>
        <p:spPr>
          <a:xfrm>
            <a:off x="5724360" y="2276640"/>
            <a:ext cx="71640" cy="865080"/>
          </a:xfrm>
          <a:custGeom>
            <a:avLst/>
            <a:gdLst>
              <a:gd name="textAreaLeft" fmla="*/ 45720 w 71640"/>
              <a:gd name="textAreaRight" fmla="*/ 72000 w 71640"/>
              <a:gd name="textAreaTop" fmla="*/ 1800 h 865080"/>
              <a:gd name="textAreaBottom" fmla="*/ 86328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"/>
                  <a:pt x="10800" y="149"/>
                </a:cubicBezTo>
                <a:lnTo>
                  <a:pt x="10800" y="10651"/>
                </a:lnTo>
                <a:cubicBezTo>
                  <a:pt x="10800" y="10726"/>
                  <a:pt x="5400" y="10800"/>
                  <a:pt x="0" y="10800"/>
                </a:cubicBezTo>
                <a:cubicBezTo>
                  <a:pt x="5400" y="10800"/>
                  <a:pt x="10800" y="10875"/>
                  <a:pt x="10800" y="10949"/>
                </a:cubicBezTo>
                <a:lnTo>
                  <a:pt x="10800" y="21451"/>
                </a:lnTo>
                <a:cubicBezTo>
                  <a:pt x="10800" y="2152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对角圆角矩形 19"/>
          <p:cNvSpPr/>
          <p:nvPr/>
        </p:nvSpPr>
        <p:spPr>
          <a:xfrm>
            <a:off x="395280" y="1484280"/>
            <a:ext cx="7993080" cy="4392720"/>
          </a:xfrm>
          <a:custGeom>
            <a:avLst/>
            <a:gdLst/>
            <a:ahLst/>
            <a:rect l="l" t="t" r="r" b="b"/>
            <a:pathLst>
              <a:path w="7992888" h="4392488">
                <a:moveTo>
                  <a:pt x="732095" y="0"/>
                </a:moveTo>
                <a:lnTo>
                  <a:pt x="7992888" y="0"/>
                </a:lnTo>
                <a:lnTo>
                  <a:pt x="7992888" y="0"/>
                </a:lnTo>
                <a:lnTo>
                  <a:pt x="7992888" y="3660392"/>
                </a:lnTo>
                <a:cubicBezTo>
                  <a:pt x="7992888" y="4064717"/>
                  <a:pt x="7665118" y="4392487"/>
                  <a:pt x="7260793" y="4392487"/>
                </a:cubicBezTo>
                <a:lnTo>
                  <a:pt x="0" y="4392488"/>
                </a:lnTo>
                <a:lnTo>
                  <a:pt x="0" y="4392488"/>
                </a:lnTo>
                <a:lnTo>
                  <a:pt x="0" y="732095"/>
                </a:lnTo>
                <a:cubicBezTo>
                  <a:pt x="0" y="327770"/>
                  <a:pt x="327770" y="0"/>
                  <a:pt x="732095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bt6b.jpg" descr=""/>
          <p:cNvPicPr/>
          <p:nvPr/>
        </p:nvPicPr>
        <p:blipFill>
          <a:blip r:embed="rId1"/>
          <a:stretch/>
        </p:blipFill>
        <p:spPr>
          <a:xfrm>
            <a:off x="2771640" y="260280"/>
            <a:ext cx="4319640" cy="7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"/>
          <p:cNvGraphicFramePr/>
          <p:nvPr/>
        </p:nvGraphicFramePr>
        <p:xfrm>
          <a:off x="179280" y="1125360"/>
          <a:ext cx="8712360" cy="5040360"/>
        </p:xfrm>
        <a:graphic>
          <a:graphicData uri="http://schemas.openxmlformats.org/drawingml/2006/table">
            <a:tbl>
              <a:tblPr/>
              <a:tblGrid>
                <a:gridCol w="647640"/>
                <a:gridCol w="8064720"/>
              </a:tblGrid>
              <a:tr h="5040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解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技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方正书宋_GBK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Rectangle 1"/>
          <p:cNvSpPr/>
          <p:nvPr/>
        </p:nvSpPr>
        <p:spPr>
          <a:xfrm>
            <a:off x="755640" y="251964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484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删。即删繁就简法。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删”就是指给意思重复或成分多余的病句消肿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从而使句子简洁明了的方法。重复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多半是用了相同意思的词语造成的。句子中所用的词语重复了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给人的感觉就显得啰嗦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好比画蛇添足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多此一举。修改时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对重复的部分择一就行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484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换。即换词搭配法。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就是指给词语搭配不当的病句换个词语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从而使句子写通顺的方法。某些词语在意义上是不能相互搭配的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或者搭配起来是不符合语言习惯的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如果搭配了就会产生病句。经常出现的病句是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主语和谓语搭配不当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动词和宾语搭配不当。修改时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般只要换一处词语就可以了。具体换哪一处应根据内容而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484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。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即调整词序法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就是指给词序混乱的病句理顺词序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从而使句子变通顺的方法。在大多数情况下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句话的词序是固定的。词序一变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句子的意思就发生变化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甚至造成语病。因此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给词语安排次序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定要符合平时的语言习惯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能随意颠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484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补。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即补充成分法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就是指给不完整的病句补充必要的成分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从而使句子完整的方法。不完整的病句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主要是缺少主干成分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即主语、谓语和宾语。具体缺少什么成分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需要仔细分析。通常情况下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主语位置居前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谓语居中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宾语居后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无宾语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则谓语居后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由于句子不仅由主干成分构成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还有一定的附加成分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所以先要找出主干成分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然后再缺啥补啥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bt45.jpg" descr=""/>
          <p:cNvPicPr/>
          <p:nvPr/>
        </p:nvPicPr>
        <p:blipFill>
          <a:blip r:embed="rId1"/>
          <a:stretch/>
        </p:blipFill>
        <p:spPr>
          <a:xfrm>
            <a:off x="6299280" y="260280"/>
            <a:ext cx="2340000" cy="549360"/>
          </a:xfrm>
          <a:prstGeom prst="rect">
            <a:avLst/>
          </a:prstGeom>
          <a:ln w="0">
            <a:noFill/>
          </a:ln>
        </p:spPr>
      </p:pic>
      <p:pic>
        <p:nvPicPr>
          <p:cNvPr id="269" name="bt6b.jpg" descr=""/>
          <p:cNvPicPr/>
          <p:nvPr/>
        </p:nvPicPr>
        <p:blipFill>
          <a:blip r:embed="rId2"/>
          <a:stretch/>
        </p:blipFill>
        <p:spPr>
          <a:xfrm>
            <a:off x="1619280" y="189000"/>
            <a:ext cx="4321080" cy="792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"/>
          <p:cNvSpPr/>
          <p:nvPr/>
        </p:nvSpPr>
        <p:spPr>
          <a:xfrm>
            <a:off x="1881360" y="1006200"/>
            <a:ext cx="5803560" cy="54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德州中考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面语段有多处语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任选两处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①颜真卿、东方朔、董仲舒的故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德州这个城市充满了传统文化的色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比丰富。②德州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是一个与廉颇、晏婴、宋哲元、时传祥等名字密不可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。③建筑独特的董子街、黑陶的工艺精致、科技领先的太阳谷、风光旖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长河公园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是她靓丽的城市名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此题考查对病句的判断、修改能力。①句中“让德州这个城市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满了传统文化的色彩”与“德州这个城市传统文化的色彩无比丰富”存在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式杂糅的语病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②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句后缺宾语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句式前后结构不一致。总体上看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“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建筑独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的董子街……科技领先的太阳谷、风光旖旎的长河公园”这一部分是以偏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式结构为主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所以要将“工艺精致的黑陶”改成偏正式结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答案〕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①删去“充满了”或“无比丰富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句末加“地方”或删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③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黑陶的工艺精致”改为“工艺精致的黑陶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3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3" dur="1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3" dur="1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1000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7" dur="1000"/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2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5" dur="5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8" dur="500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1" dur="500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4" dur="500"/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bt46.jpg" descr=""/>
          <p:cNvPicPr/>
          <p:nvPr/>
        </p:nvPicPr>
        <p:blipFill>
          <a:blip r:embed="rId1"/>
          <a:stretch/>
        </p:blipFill>
        <p:spPr>
          <a:xfrm>
            <a:off x="6083280" y="331920"/>
            <a:ext cx="2448000" cy="504720"/>
          </a:xfrm>
          <a:prstGeom prst="rect">
            <a:avLst/>
          </a:prstGeom>
          <a:ln w="0">
            <a:noFill/>
          </a:ln>
        </p:spPr>
      </p:pic>
      <p:pic>
        <p:nvPicPr>
          <p:cNvPr id="272" name="bt6b.jpg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4321080" cy="79236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"/>
          <p:cNvSpPr/>
          <p:nvPr/>
        </p:nvSpPr>
        <p:spPr>
          <a:xfrm>
            <a:off x="1877400" y="1220400"/>
            <a:ext cx="582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营口中考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面两个句子都有语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将修改后的句子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答题卡指定位置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自己一个希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能活出一份精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命运之神青睐的是勇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取、勇于拼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年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省各中小学逐步完善和建立了校园安全工作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句修改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句修改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4"/>
          <p:cNvSpPr/>
          <p:nvPr/>
        </p:nvSpPr>
        <p:spPr>
          <a:xfrm>
            <a:off x="2340000" y="40766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缺宾语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在“拼搏”后加“的人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5"/>
          <p:cNvSpPr/>
          <p:nvPr/>
        </p:nvSpPr>
        <p:spPr>
          <a:xfrm>
            <a:off x="2340000" y="4508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语序颠倒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调换“完善和建立”两个词语的顺序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8"/>
          <p:cNvSpPr/>
          <p:nvPr/>
        </p:nvSpPr>
        <p:spPr>
          <a:xfrm>
            <a:off x="2484360" y="4581360"/>
            <a:ext cx="475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11"/>
          <p:cNvSpPr/>
          <p:nvPr/>
        </p:nvSpPr>
        <p:spPr>
          <a:xfrm>
            <a:off x="2411280" y="5084640"/>
            <a:ext cx="619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"/>
          <p:cNvSpPr/>
          <p:nvPr/>
        </p:nvSpPr>
        <p:spPr>
          <a:xfrm>
            <a:off x="961200" y="148572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形近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339200" y="1989000"/>
            <a:ext cx="26344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磬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qìng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击磬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罄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qìng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罄竹难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馨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ī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馨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502240" y="1773360"/>
            <a:ext cx="2273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湛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湛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堪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k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难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斟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ē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斟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1105200" y="4076640"/>
            <a:ext cx="230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绚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u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绚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ú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询问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殉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ù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殉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5567040" y="4005360"/>
            <a:ext cx="2421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銮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u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金銮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峦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u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山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恋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恋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左大括号 11"/>
          <p:cNvSpPr/>
          <p:nvPr/>
        </p:nvSpPr>
        <p:spPr>
          <a:xfrm>
            <a:off x="826920" y="2349360"/>
            <a:ext cx="144720" cy="136692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1366920"/>
              <a:gd name="textAreaBottom" fmla="*/ 136332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左大括号 12"/>
          <p:cNvSpPr/>
          <p:nvPr/>
        </p:nvSpPr>
        <p:spPr>
          <a:xfrm>
            <a:off x="5076720" y="4365720"/>
            <a:ext cx="142920" cy="136692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366920"/>
              <a:gd name="textAreaBottom" fmla="*/ 136332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左大括号 13"/>
          <p:cNvSpPr/>
          <p:nvPr/>
        </p:nvSpPr>
        <p:spPr>
          <a:xfrm>
            <a:off x="755640" y="4437000"/>
            <a:ext cx="144360" cy="136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368360"/>
              <a:gd name="textAreaBottom" fmla="*/ 13647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左大括号 14"/>
          <p:cNvSpPr/>
          <p:nvPr/>
        </p:nvSpPr>
        <p:spPr>
          <a:xfrm>
            <a:off x="5076720" y="2205000"/>
            <a:ext cx="142920" cy="136836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368360"/>
              <a:gd name="textAreaBottom" fmla="*/ 13647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对角圆角矩形 15"/>
          <p:cNvSpPr/>
          <p:nvPr/>
        </p:nvSpPr>
        <p:spPr>
          <a:xfrm>
            <a:off x="539640" y="1484280"/>
            <a:ext cx="7848720" cy="4681440"/>
          </a:xfrm>
          <a:custGeom>
            <a:avLst/>
            <a:gdLst/>
            <a:ahLst/>
            <a:rect l="l" t="t" r="r" b="b"/>
            <a:pathLst>
              <a:path w="7848872" h="4680520">
                <a:moveTo>
                  <a:pt x="780102" y="0"/>
                </a:moveTo>
                <a:lnTo>
                  <a:pt x="7848872" y="0"/>
                </a:lnTo>
                <a:lnTo>
                  <a:pt x="7848872" y="0"/>
                </a:lnTo>
                <a:lnTo>
                  <a:pt x="7848872" y="3900417"/>
                </a:lnTo>
                <a:cubicBezTo>
                  <a:pt x="7848872" y="4331255"/>
                  <a:pt x="7499608" y="4680519"/>
                  <a:pt x="7068770" y="4680519"/>
                </a:cubicBezTo>
                <a:lnTo>
                  <a:pt x="0" y="4680520"/>
                </a:lnTo>
                <a:lnTo>
                  <a:pt x="0" y="4680520"/>
                </a:lnTo>
                <a:lnTo>
                  <a:pt x="0" y="780102"/>
                </a:lnTo>
                <a:cubicBezTo>
                  <a:pt x="0" y="349264"/>
                  <a:pt x="349264" y="0"/>
                  <a:pt x="78010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"/>
          <p:cNvSpPr/>
          <p:nvPr/>
        </p:nvSpPr>
        <p:spPr>
          <a:xfrm>
            <a:off x="1033920" y="155808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4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成语辨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55640" y="1989000"/>
          <a:ext cx="7848720" cy="3960720"/>
        </p:xfrm>
        <a:graphic>
          <a:graphicData uri="http://schemas.openxmlformats.org/drawingml/2006/table">
            <a:tbl>
              <a:tblPr/>
              <a:tblGrid>
                <a:gridCol w="871560"/>
                <a:gridCol w="6977160"/>
              </a:tblGrid>
              <a:tr h="792000"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迥然不同　截然不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求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2376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辨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>
                        <a:lnSpc>
                          <a:spcPts val="12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ff00ff"/>
                      </a:solidFill>
                    </a:lnL>
                    <a:lnR w="5760">
                      <a:solidFill>
                        <a:srgbClr val="ff00ff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矩形 10"/>
          <p:cNvSpPr/>
          <p:nvPr/>
        </p:nvSpPr>
        <p:spPr>
          <a:xfrm>
            <a:off x="1619280" y="364500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迥然不同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表示很不相同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差别很大。在语义上重于“截然不同”。如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经科学家证明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孩子与成人的心理世界是迥然不同的。截然不同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容完全不同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没有一点相同。当强调根本不同时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宜用“截然不同”。如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红楼梦》关于宝黛爱情的描写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截然不同于一般的才子佳人小说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而是有着深刻的社会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1"/>
          <p:cNvSpPr/>
          <p:nvPr/>
        </p:nvSpPr>
        <p:spPr>
          <a:xfrm>
            <a:off x="2463480" y="292428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都有“不相同”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901440" y="1501560"/>
            <a:ext cx="137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5.</a:t>
            </a: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重要词语释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殿试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斗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额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镏金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藻井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鳌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1332000" y="206064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科举制度最高一级考试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皇帝亲临殿廷主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1332000" y="249228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国传统木结构建筑中的一种支承构件。也作枓拱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枓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9"/>
          <p:cNvSpPr/>
          <p:nvPr/>
        </p:nvSpPr>
        <p:spPr>
          <a:xfrm>
            <a:off x="1332000" y="292428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额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匾额。枋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两柱之间起联系作用的横木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断面一般为矩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0"/>
          <p:cNvSpPr/>
          <p:nvPr/>
        </p:nvSpPr>
        <p:spPr>
          <a:xfrm>
            <a:off x="1403280" y="3429000"/>
            <a:ext cx="64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把溶解在水银里的金子涂在器物表面。也作鎏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1"/>
          <p:cNvSpPr/>
          <p:nvPr/>
        </p:nvSpPr>
        <p:spPr>
          <a:xfrm>
            <a:off x="1332000" y="3860640"/>
            <a:ext cx="7038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宫殿或厅堂天花板上的一种装饰。一般呈圆形、方形或多边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上有各种花纹、雕刻或彩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1403280" y="4724280"/>
            <a:ext cx="970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指皇宫大殿石阶上刻的鳌的头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考上状元的人可以踏上。后来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独占鳌头”比喻占首位或取得第一名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对角圆角矩形 13"/>
          <p:cNvSpPr/>
          <p:nvPr/>
        </p:nvSpPr>
        <p:spPr>
          <a:xfrm>
            <a:off x="395280" y="1484280"/>
            <a:ext cx="8497800" cy="4537080"/>
          </a:xfrm>
          <a:custGeom>
            <a:avLst/>
            <a:gdLst/>
            <a:ahLst/>
            <a:rect l="l" t="t" r="r" b="b"/>
            <a:pathLst>
              <a:path w="8496944" h="4536504">
                <a:moveTo>
                  <a:pt x="756099" y="0"/>
                </a:moveTo>
                <a:lnTo>
                  <a:pt x="8496944" y="0"/>
                </a:lnTo>
                <a:lnTo>
                  <a:pt x="8496944" y="0"/>
                </a:lnTo>
                <a:lnTo>
                  <a:pt x="8496944" y="3780404"/>
                </a:lnTo>
                <a:cubicBezTo>
                  <a:pt x="8496944" y="4197986"/>
                  <a:pt x="8158427" y="4536503"/>
                  <a:pt x="7740845" y="4536503"/>
                </a:cubicBezTo>
                <a:lnTo>
                  <a:pt x="0" y="4536504"/>
                </a:lnTo>
                <a:lnTo>
                  <a:pt x="0" y="4536504"/>
                </a:lnTo>
                <a:lnTo>
                  <a:pt x="0" y="756099"/>
                </a:lnTo>
                <a:cubicBezTo>
                  <a:pt x="0" y="338517"/>
                  <a:pt x="338517" y="0"/>
                  <a:pt x="756099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8"/>
          <p:cNvSpPr/>
          <p:nvPr/>
        </p:nvSpPr>
        <p:spPr>
          <a:xfrm>
            <a:off x="611280" y="69228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539640" y="69228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"/>
          <p:cNvSpPr/>
          <p:nvPr/>
        </p:nvSpPr>
        <p:spPr>
          <a:xfrm>
            <a:off x="900000" y="1115640"/>
            <a:ext cx="1072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迥然不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井然有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矗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矫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湛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瑰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玲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肃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掩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2124000" y="126828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容差别很大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很不相同。迥然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容差别很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2195640" y="1773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整齐而有秩序。井然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整齐的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9"/>
          <p:cNvSpPr/>
          <p:nvPr/>
        </p:nvSpPr>
        <p:spPr>
          <a:xfrm>
            <a:off x="2397960" y="2349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高耸地立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0"/>
          <p:cNvSpPr/>
          <p:nvPr/>
        </p:nvSpPr>
        <p:spPr>
          <a:xfrm>
            <a:off x="1905480" y="2852640"/>
            <a:ext cx="11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强壮有力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1"/>
          <p:cNvSpPr/>
          <p:nvPr/>
        </p:nvSpPr>
        <p:spPr>
          <a:xfrm>
            <a:off x="1547640" y="3429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深蓝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多用来形容天空、湖海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2778120" y="3933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特别珍贵的东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2276280" y="450864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东西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精巧细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4"/>
          <p:cNvSpPr/>
          <p:nvPr/>
        </p:nvSpPr>
        <p:spPr>
          <a:xfrm>
            <a:off x="2244600" y="5084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严肃安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5"/>
          <p:cNvSpPr/>
          <p:nvPr/>
        </p:nvSpPr>
        <p:spPr>
          <a:xfrm>
            <a:off x="3013560" y="551664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彼此遮掩而互相衬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对角圆角矩形 16"/>
          <p:cNvSpPr/>
          <p:nvPr/>
        </p:nvSpPr>
        <p:spPr>
          <a:xfrm>
            <a:off x="395280" y="1197000"/>
            <a:ext cx="8209080" cy="4896000"/>
          </a:xfrm>
          <a:custGeom>
            <a:avLst/>
            <a:gdLst/>
            <a:ahLst/>
            <a:rect l="l" t="t" r="r" b="b"/>
            <a:pathLst>
              <a:path w="8208912" h="4896544">
                <a:moveTo>
                  <a:pt x="816106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4080437"/>
                </a:lnTo>
                <a:cubicBezTo>
                  <a:pt x="8208912" y="4531160"/>
                  <a:pt x="7843529" y="4896543"/>
                  <a:pt x="7392806" y="4896543"/>
                </a:cubicBezTo>
                <a:lnTo>
                  <a:pt x="0" y="4896544"/>
                </a:lnTo>
                <a:lnTo>
                  <a:pt x="0" y="4896544"/>
                </a:lnTo>
                <a:lnTo>
                  <a:pt x="0" y="816106"/>
                </a:lnTo>
                <a:cubicBezTo>
                  <a:pt x="0" y="365383"/>
                  <a:pt x="365383" y="0"/>
                  <a:pt x="816106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1674720" y="1506600"/>
            <a:ext cx="5916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黄传惕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1934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生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湖南省平江县人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笔名黄羽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党员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小喜欢看书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5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考入中山大学语言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系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54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该系合并到北京大学中文系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在北京大学毕业后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配到中央人民广播电台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事新闻和专题节目的编辑与政治、广教等方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采访工作。先后任编辑、记者、副主任、主任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对角圆角矩形 5"/>
          <p:cNvSpPr/>
          <p:nvPr/>
        </p:nvSpPr>
        <p:spPr>
          <a:xfrm>
            <a:off x="324000" y="1413000"/>
            <a:ext cx="8424720" cy="4680000"/>
          </a:xfrm>
          <a:custGeom>
            <a:avLst/>
            <a:gdLst/>
            <a:ahLst/>
            <a:rect l="l" t="t" r="r" b="b"/>
            <a:pathLst>
              <a:path w="8424936" h="4680520">
                <a:moveTo>
                  <a:pt x="780102" y="0"/>
                </a:moveTo>
                <a:lnTo>
                  <a:pt x="8424936" y="0"/>
                </a:lnTo>
                <a:lnTo>
                  <a:pt x="8424936" y="0"/>
                </a:lnTo>
                <a:lnTo>
                  <a:pt x="8424936" y="3900417"/>
                </a:lnTo>
                <a:cubicBezTo>
                  <a:pt x="8424936" y="4331255"/>
                  <a:pt x="8075672" y="4680519"/>
                  <a:pt x="7644834" y="4680519"/>
                </a:cubicBezTo>
                <a:lnTo>
                  <a:pt x="0" y="4680520"/>
                </a:lnTo>
                <a:lnTo>
                  <a:pt x="0" y="4680520"/>
                </a:lnTo>
                <a:lnTo>
                  <a:pt x="0" y="780102"/>
                </a:lnTo>
                <a:cubicBezTo>
                  <a:pt x="0" y="349264"/>
                  <a:pt x="349264" y="0"/>
                  <a:pt x="78010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Users\Administrator\Desktop\QQ截图20160528070514.png"/>
          <p:cNvPicPr/>
          <p:nvPr/>
        </p:nvPicPr>
        <p:blipFill>
          <a:blip r:embed="rId2"/>
          <a:stretch/>
        </p:blipFill>
        <p:spPr>
          <a:xfrm>
            <a:off x="3419640" y="5373720"/>
            <a:ext cx="391464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"/>
          <p:cNvSpPr/>
          <p:nvPr/>
        </p:nvSpPr>
        <p:spPr>
          <a:xfrm>
            <a:off x="1600560" y="1468440"/>
            <a:ext cx="43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故宫博物院》是一篇介绍故宫博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院的解说词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题目可以看出故宫的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特点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历史悠久——由“故”而知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筑风格——“宫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古代宫殿建筑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广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列的东西多——博物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;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院”则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四面环墙。文章按照参观路线介绍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故宫的建筑结构、布局和功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对角圆角矩形 5"/>
          <p:cNvSpPr/>
          <p:nvPr/>
        </p:nvSpPr>
        <p:spPr>
          <a:xfrm>
            <a:off x="539640" y="1628640"/>
            <a:ext cx="7848720" cy="4321440"/>
          </a:xfrm>
          <a:custGeom>
            <a:avLst/>
            <a:gdLst/>
            <a:ahLst/>
            <a:rect l="l" t="t" r="r" b="b"/>
            <a:pathLst>
              <a:path w="7848872" h="4320480">
                <a:moveTo>
                  <a:pt x="720094" y="0"/>
                </a:moveTo>
                <a:lnTo>
                  <a:pt x="7848872" y="0"/>
                </a:lnTo>
                <a:lnTo>
                  <a:pt x="7848872" y="0"/>
                </a:lnTo>
                <a:lnTo>
                  <a:pt x="7848872" y="3600385"/>
                </a:lnTo>
                <a:cubicBezTo>
                  <a:pt x="7848872" y="3998082"/>
                  <a:pt x="7526475" y="4320479"/>
                  <a:pt x="7128778" y="4320479"/>
                </a:cubicBezTo>
                <a:lnTo>
                  <a:pt x="0" y="4320480"/>
                </a:lnTo>
                <a:lnTo>
                  <a:pt x="0" y="4320480"/>
                </a:lnTo>
                <a:lnTo>
                  <a:pt x="0" y="720094"/>
                </a:lnTo>
                <a:cubicBezTo>
                  <a:pt x="0" y="322397"/>
                  <a:pt x="322397" y="0"/>
                  <a:pt x="720094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Users\Administrator\Desktop\QQ截图20160528070525.png"/>
          <p:cNvPicPr/>
          <p:nvPr/>
        </p:nvPicPr>
        <p:blipFill>
          <a:blip r:embed="rId2"/>
          <a:stretch/>
        </p:blipFill>
        <p:spPr>
          <a:xfrm>
            <a:off x="6804000" y="2349360"/>
            <a:ext cx="2160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Administrator</dc:creator>
  <dc:description/>
  <dc:language>en-US</dc:language>
  <cp:lastModifiedBy>Windows 用户</cp:lastModifiedBy>
  <dcterms:modified xsi:type="dcterms:W3CDTF">2017-01-07T05:55:4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